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224F-0C49-407A-AE3C-C0D77455D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F666-6A4B-4469-BBD4-B1982A56F3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811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ground De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esign Template: Network Blitz:   8.1” Height by 10” wide; fill whole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ab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5 boxes across and 6 boxes down: total of 30 boxes.  Position: edge of table touches both left and right edge of slide.  Top of table is 1” from top of page and bottom is 1” from bottom of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ading of colum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Literary terms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e Light in the Forest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Vocabulary, Test Taking Strategies, and Anything Goes: all in Arial font, size 22 and all centered justified all in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seco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fifth column, $100 - $500 dollar amount: Arial font, size 28 and all centered justified all in orange. All hyperlink to different pages throughout slide show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eading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inal Jeopardy!! In text box, .67”  horizontal and 0” vertical from top left hand corner.  Font: Arial Black 48 point font in yellow-oran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nal Jeopardy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.75” horizontally and 7” vertically from top left hand corner.  Arial font size 24, orange color.  Hyperlink to final Jeopardy page (last page of slide show.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838080" y="4114800"/>
            <a:ext cx="5639040" cy="327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914400" y="7467480"/>
            <a:ext cx="533412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Principles: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Learning principle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organization: 3.4: logically organized text: each piece is chunked into its own category.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Motivation principle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: each question gets harder as you go through, therefore, the students start off with the easier information and get a sense of accomplishment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6"/>
          <p:cNvSpPr/>
          <p:nvPr/>
        </p:nvSpPr>
        <p:spPr>
          <a:xfrm>
            <a:off x="838080" y="7391520"/>
            <a:ext cx="563904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3117-0F15-4111-B643-EEFC192553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837720" y="4343400"/>
            <a:ext cx="53341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ground De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esign Template: Network Blitz:   8.1” Height by 10” wide; fill whole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iterary Terms - $100: Position: .83” horizontally and 0.83” vertically from top left corner.  Font type: Arial Black size 48. Color: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box size: 4.5” height and 8” wide. Position: 1.08” horizontally and 2.08” vertically from top left corner.   Font: Arial, size 36 and color is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xt box: Position: 1.42” horizontally and 4.92” vertically from top left corner.  Font type: Times New Roman, size 44, color is white.  Action setting: fly from left on mouse clic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 Butt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lex Trebeck’s face.  Size 2.42”  height and 1.09” wide.  Position: 8.67.” horizontally and 4.58” vertically from top left corner.  Hyperlinked to first slide or game board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8080" y="4267080"/>
            <a:ext cx="5639040" cy="266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838080" y="6934320"/>
            <a:ext cx="54864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nciples: Motivat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there is immediate feedback to the students.  Setup in a game format making it more competitive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erception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the rate of instruction is slow enough for students to determine the answer, yet quick enough so that they do not lose their focus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ligned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all objects are aligned: the wording to the left and the picture to the right, based on the last letter or number in the title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838080" y="6934320"/>
            <a:ext cx="5639040" cy="1523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9F5F-CF4A-4D13-AA8F-C5F32EC995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410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ground De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Design Template: Network Blitz:   8.1” Height by 10” wide; fill whole p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itl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Literary Terms - $200: Position: .83” horizontally and 0.83” vertically from top left corner.  Font type: Arial Black size 48. Color: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box size: 4.5” height and 8” wide. Position: 1.08” horizontally and 2.08” vertically from top left corner.   Font: Arial, size 36 and color is wh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xt box: Position: 1.42” horizontally and 4.92” vertically from top left corner.  Font type: Times New Roman, size 44, color is white.  Action setting: fly from left on mouse clic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ck Butt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lex Trebeck’s face.  Size 2.42”  height and 1.09” wide.  Position: 8.67.” horizontally and 4.58” vertically from top left corner.  Hyperlinked to first slide or game board slid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838080" y="4191120"/>
            <a:ext cx="5639040" cy="274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914400" y="7010280"/>
            <a:ext cx="5562720" cy="19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inciples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tivation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ositive Impression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: 5.2- Text on the page is kept to a minimum so that students wont be overwhelmed. Well organized and familiar with type size, style, etc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adable Style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6- Passages are small and to the point. Wording is familiar and comfortable; not over their heads.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epetition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ll of the slides have the same style of text and the same background. 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lignment: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all of the wording objects are aligned to the left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838080" y="6934320"/>
            <a:ext cx="563904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3E38-2108-4E74-A1E2-35717DC5C6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6774-43BF-47FE-A2D2-FA0EB754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EC3E-F13F-4AC9-8809-740659E4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25F-E549-426A-B592-4FD9BEE69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261D-63B4-4E4D-B623-00D26C358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D517-D8BE-4559-B0B2-1992392F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6610-02E8-4AA8-98C8-29CB67D6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D91F-89C0-4BCC-A391-79594152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E6C0-2189-400F-823E-06901551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8C43-438E-485B-8274-89BE4A9C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E736-610D-46A7-AF47-290123B2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A4C8-C21F-4815-B4CE-3C3BE800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920D-325F-4D37-B672-0D824A44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D1A3-5065-49D3-9981-A6AE396B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C7CD-3BB7-44E7-A2E7-05D4AA04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C361-5798-4765-8BA9-19319673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ED8A-73CE-40B1-BD08-71F26012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B460-2E0B-42EC-8F23-BC8CB647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B7EF-43D4-4F3D-B618-1C32E37B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136C-68CA-4083-AB3E-644E53C4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8C0B-DC3E-42A2-9E69-4CD69894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3DF5-C61F-42F8-8F95-240006C4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DD01-F2A3-4E48-96F3-BF014BD3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556B-9C81-4FFB-8929-F4F29C3E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3952-3722-4860-BBDD-DAC76715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3FA8-2771-43C6-8D88-F1EA41576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AB8F-4358-49FB-8A0A-0AA7FE0136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7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22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23.xml"/><Relationship Id="rId11" Type="http://schemas.openxmlformats.org/officeDocument/2006/relationships/slide" Target="slide4.xml"/><Relationship Id="rId12" Type="http://schemas.openxmlformats.org/officeDocument/2006/relationships/slide" Target="slide9.xml"/><Relationship Id="rId13" Type="http://schemas.openxmlformats.org/officeDocument/2006/relationships/slide" Target="slide14.xml"/><Relationship Id="rId14" Type="http://schemas.openxmlformats.org/officeDocument/2006/relationships/slide" Target="slide19.xml"/><Relationship Id="rId15" Type="http://schemas.openxmlformats.org/officeDocument/2006/relationships/slide" Target="slide24.xml"/><Relationship Id="rId16" Type="http://schemas.openxmlformats.org/officeDocument/2006/relationships/slide" Target="slide5.xml"/><Relationship Id="rId17" Type="http://schemas.openxmlformats.org/officeDocument/2006/relationships/slide" Target="slide10.xml"/><Relationship Id="rId18" Type="http://schemas.openxmlformats.org/officeDocument/2006/relationships/slide" Target="slide15.xml"/><Relationship Id="rId19" Type="http://schemas.openxmlformats.org/officeDocument/2006/relationships/slide" Target="slide20.xml"/><Relationship Id="rId20" Type="http://schemas.openxmlformats.org/officeDocument/2006/relationships/slide" Target="slide25.xml"/><Relationship Id="rId21" Type="http://schemas.openxmlformats.org/officeDocument/2006/relationships/slide" Target="slide6.xml"/><Relationship Id="rId22" Type="http://schemas.openxmlformats.org/officeDocument/2006/relationships/slide" Target="slide11.xml"/><Relationship Id="rId23" Type="http://schemas.openxmlformats.org/officeDocument/2006/relationships/slide" Target="slide16.xml"/><Relationship Id="rId24" Type="http://schemas.openxmlformats.org/officeDocument/2006/relationships/slide" Target="slide21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rial Black"/>
              </a:rPr>
              <a:t>JEOPARDY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914400"/>
          <a:ext cx="9144000" cy="5062680"/>
        </p:xfrm>
        <a:graphic>
          <a:graphicData uri="http://schemas.openxmlformats.org/drawingml/2006/table">
            <a:tbl>
              <a:tblPr/>
              <a:tblGrid>
                <a:gridCol w="1844640"/>
                <a:gridCol w="1924200"/>
                <a:gridCol w="1717560"/>
                <a:gridCol w="1843200"/>
                <a:gridCol w="18144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e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dford Hist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uth Americ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urope/Russ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$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$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$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$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f98d43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$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Text Box 133"/>
          <p:cNvSpPr/>
          <p:nvPr/>
        </p:nvSpPr>
        <p:spPr>
          <a:xfrm>
            <a:off x="3429000" y="6400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98d43"/>
                </a:solidFill>
                <a:uFillTx/>
                <a:latin typeface="Arial"/>
                <a:hlinkClick r:id="rId26" action="ppaction://hlinksldjump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tropic cuts across the center of Mexico?  South of this results in warm-weather year roun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066680" y="434340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opic of Canc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914400" y="8078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Mexico- $4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6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079880"/>
            <a:ext cx="20574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914400" y="48769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– Yucatan Peninsula; B – Gulf of Mexico; C – Pacific Ocean; D – Mexico 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914400" y="434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Mexico- $500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90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086600" y="4079880"/>
            <a:ext cx="2057400" cy="2778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1371600" y="2133720"/>
            <a:ext cx="5029200" cy="2595600"/>
          </a:xfrm>
          <a:prstGeom prst="rect">
            <a:avLst/>
          </a:prstGeom>
          <a:ln w="0">
            <a:noFill/>
          </a:ln>
        </p:spPr>
      </p:pic>
      <p:sp>
        <p:nvSpPr>
          <p:cNvPr id="192" name="TextBox 6"/>
          <p:cNvSpPr/>
          <p:nvPr/>
        </p:nvSpPr>
        <p:spPr>
          <a:xfrm>
            <a:off x="594360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Box 7"/>
          <p:cNvSpPr/>
          <p:nvPr/>
        </p:nvSpPr>
        <p:spPr>
          <a:xfrm>
            <a:off x="510876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2061000" y="40384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Box 9"/>
          <p:cNvSpPr/>
          <p:nvPr/>
        </p:nvSpPr>
        <p:spPr>
          <a:xfrm>
            <a:off x="4269960" y="3886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871200"/>
            <a:ext cx="746784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Bedford History- $1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. George Washington used to stay at the ESPY House in Bedford.  This is now known as, “Gardeners Candy.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295280" y="4876920"/>
            <a:ext cx="510552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5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079880"/>
            <a:ext cx="20574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7156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Bedford History- $2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eorge Washington marched his army to Bedford in 1794 to subdue what?  (British Invasion, French and Indian War, Whiskey Rebelli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295280" y="495288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iskey Rebell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543800" y="4697280"/>
            <a:ext cx="16002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792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Bedford History- $3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reets and alleys that were laid out in Bedford were named Juliana, John, Thomas, and Richard.  They were named after who’s children?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066680" y="38098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illiam Pen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079880"/>
            <a:ext cx="20574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edford History- $4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uring what war was Fort Bedford buil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990720" y="4191120"/>
            <a:ext cx="609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French and Indian Wa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079880"/>
            <a:ext cx="20574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792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Bedford History- $5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066680" y="51814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rset, Cambria, Blair, Huntingdon, Fult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772400" y="5005440"/>
            <a:ext cx="1371600" cy="1852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6780240" cy="33530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9"/>
          <p:cNvSpPr/>
          <p:nvPr/>
        </p:nvSpPr>
        <p:spPr>
          <a:xfrm>
            <a:off x="2369880" y="4876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2670480" y="4191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Box 13"/>
          <p:cNvSpPr/>
          <p:nvPr/>
        </p:nvSpPr>
        <p:spPr>
          <a:xfrm>
            <a:off x="3204000" y="411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Box 14"/>
          <p:cNvSpPr/>
          <p:nvPr/>
        </p:nvSpPr>
        <p:spPr>
          <a:xfrm>
            <a:off x="3660480" y="4191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Box 16"/>
          <p:cNvSpPr/>
          <p:nvPr/>
        </p:nvSpPr>
        <p:spPr>
          <a:xfrm>
            <a:off x="3508560" y="4800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South America- $1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5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argest country in the world? It is the largest South American countr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066680" y="4495680"/>
            <a:ext cx="59436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Times New Roman"/>
              </a:rPr>
              <a:t>Brazil</a:t>
            </a:r>
            <a:endParaRPr b="0" lang="en-US" sz="5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name of the world’s largest rodent that lives in Brazil and Venezuela?  (over 100 pound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066680" y="4800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Capybar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South America- $2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29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162920" y="4222800"/>
            <a:ext cx="19810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mountains tower over the western part of Argentina?  This mountain range is the longest in the world. (4, 400 miles long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143000" y="46483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ndes Mountai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South America- $3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33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82224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anada - $1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e or False. Canada has more people than the United St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52480" y="3581280"/>
            <a:ext cx="4876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alse.   Canada has 33 million/ USA has 305 mill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079880"/>
            <a:ext cx="20574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national dance of Argentina? Also, what South American country is a world leader in oil production?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914400" y="464832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ango/Venezuel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990720" y="8348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South America- $4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37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219320" y="495288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azil, Paraguay, Uruguay, Argentina, Chile, Bolivia, Peru, Ecuad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South America- $5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919320" cy="3505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urope/ Russia- $1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.  Hockey, figure skating, and gymnastics are the most popular sports in Russi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905120" y="4267080"/>
            <a:ext cx="41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ru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urope/ Russia- $2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which country can you drive on the fastest highway in the world?  What is this highway known a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1066680" y="4876920"/>
            <a:ext cx="6324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Times New Roman"/>
              </a:rPr>
              <a:t>Germany/ Autobahn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urope/ Russia- $3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time known as when people used machinery and new methods to increase productivit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990720" y="4343400"/>
            <a:ext cx="647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dustrial Revolu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121280"/>
            <a:ext cx="20574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urope/ Russia- $4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were the three main Greek Gods?  Who was the goddess of wisdom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066680" y="4343400"/>
            <a:ext cx="6629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Zeus, Poseidon, and Haden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hena (Wisdom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238880" y="4324320"/>
            <a:ext cx="19051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Europe/ Russia- $5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38080" y="495288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aly, Spain, Portugal, France, Germany, Black Sea, Russ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238880" y="4324320"/>
            <a:ext cx="1905120" cy="25336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"/>
          <p:cNvPicPr/>
          <p:nvPr/>
        </p:nvPicPr>
        <p:blipFill>
          <a:blip r:embed="rId3"/>
          <a:stretch/>
        </p:blipFill>
        <p:spPr>
          <a:xfrm>
            <a:off x="1981080" y="1828800"/>
            <a:ext cx="5029200" cy="3048120"/>
          </a:xfrm>
          <a:prstGeom prst="rect">
            <a:avLst/>
          </a:prstGeom>
          <a:ln w="0">
            <a:noFill/>
          </a:ln>
        </p:spPr>
      </p:pic>
      <p:sp>
        <p:nvSpPr>
          <p:cNvPr id="264" name="TextBox 7"/>
          <p:cNvSpPr/>
          <p:nvPr/>
        </p:nvSpPr>
        <p:spPr>
          <a:xfrm>
            <a:off x="3893760" y="3962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Box 8"/>
          <p:cNvSpPr/>
          <p:nvPr/>
        </p:nvSpPr>
        <p:spPr>
          <a:xfrm>
            <a:off x="2594160" y="411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Box 9"/>
          <p:cNvSpPr/>
          <p:nvPr/>
        </p:nvSpPr>
        <p:spPr>
          <a:xfrm>
            <a:off x="2133720" y="4114800"/>
            <a:ext cx="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extBox 10"/>
          <p:cNvSpPr/>
          <p:nvPr/>
        </p:nvSpPr>
        <p:spPr>
          <a:xfrm>
            <a:off x="297468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Box 12"/>
          <p:cNvSpPr/>
          <p:nvPr/>
        </p:nvSpPr>
        <p:spPr>
          <a:xfrm>
            <a:off x="571788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6098760" y="2438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3737160" y="3124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53352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nal Jeopard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010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eate a thesis statement out of the questions below.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4" descr="alex_no_stash_no_background"/>
          <p:cNvPicPr/>
          <p:nvPr/>
        </p:nvPicPr>
        <p:blipFill>
          <a:blip r:embed="rId2"/>
          <a:stretch/>
        </p:blipFill>
        <p:spPr>
          <a:xfrm>
            <a:off x="7696080" y="4572000"/>
            <a:ext cx="1028880" cy="22860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5"/>
          <p:cNvSpPr/>
          <p:nvPr/>
        </p:nvSpPr>
        <p:spPr>
          <a:xfrm>
            <a:off x="609480" y="3505320"/>
            <a:ext cx="6553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why True Son was frightened to return to the Butler hou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74592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Canada - $20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capital city of Canada?  What is the most populous city in Canada?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Toronto, Ottawa, Quebec City, Vancouv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295280" y="487692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ttawa/ Toront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079880"/>
            <a:ext cx="20574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82980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anada - $3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ada is the ________ largest country in the worl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371600" y="449568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Times New Roman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largest behind Russi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281720" y="4343400"/>
            <a:ext cx="1862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anada - $4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are the two official languages of Canada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1523880" y="426708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nglish and Fren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451640" y="4572000"/>
            <a:ext cx="1692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79200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anada-$5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West to East, list six of the 10 provinces in order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1219320" y="37339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ASMOQNNN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620120" y="4800600"/>
            <a:ext cx="1523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8078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Mexico-$10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0 % of Mexico’s population follow what major relig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95280" y="5029200"/>
            <a:ext cx="632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oman Cathol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079880"/>
            <a:ext cx="20574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does hombre, nina, nino, and Soy anciana mean in Spanish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219320" y="434340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, girl, boy, and I am ol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914400" y="8078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Mexico- $200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8" name="Picture 5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4079880"/>
            <a:ext cx="20574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did Mexico win its independence from and what holiday is celebrated on May 5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371600" y="3886200"/>
            <a:ext cx="518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xico won it’s independence from Spain/ Holiday = Cinco de May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914400" y="496800"/>
            <a:ext cx="77724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Mexico - $300 (Daily Double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82" name="Picture 5" descr="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7086600" y="4079880"/>
            <a:ext cx="205740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1:30:16Z</dcterms:created>
  <dc:creator>Student</dc:creator>
  <dc:description/>
  <dc:language>en-US</dc:language>
  <cp:lastModifiedBy>Tom Otis</cp:lastModifiedBy>
  <dcterms:modified xsi:type="dcterms:W3CDTF">2010-03-16T02:26:57Z</dcterms:modified>
  <cp:revision>90</cp:revision>
  <dc:subject/>
  <dc:title>Jeopardy</dc:title>
</cp:coreProperties>
</file>